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49F-3A97-47C6-B6BF-7647FC58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6DB-FF61-4740-A307-8EE1D56E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071-9295-454C-9C80-F1BC1A8A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769-1769-4F17-B6C3-BD6F808C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214-7DA9-43B9-AF47-061E47EE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FD3-AF4A-4FDD-BCB9-A94CD3CC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0F6-DCAD-46D5-948D-5C8EA6A4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46B-DCD2-48B3-8F97-19D1F2C7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60DB-F341-4486-8410-C66EF6CB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C09-56CD-4B87-83CB-BFEC8CD0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175-FAF0-4E13-B76C-D496F50A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165-9A3B-4F31-8430-58924C29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DE62-D8CD-4D6B-B7B7-9EDC9F2D7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paceweathercenter.org/amazing_plasmas/02/0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greenlandholiday.com/Portals/0/Photos/Northern%2520Lights%2520over%2520the%2520fjords.jpg&amp;imgrefurl=http://www.greenlandholiday.com/AboutGreenland/NorthernLights/tabid/67/Default.aspx&amp;h=1045&amp;w=1600&amp;sz=107&amp;hl=en&amp;start=1&amp;um=1&amp;tbnid=QkSKNhSJ95YqbM:&amp;tbnh=98&amp;tbnw=150&amp;prev=/images%3Fq%3DNorthern%2BLights%26svnum%3D10%26um%3D1%26hl%3Den%26sa%3DN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plasmas.org/rot-space.htm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s.google.com/imgres?imgurl=http://www.global-b2b-network.com/direct/dbimage/50255311/Open_Neon_Sign.jpg&amp;imgrefurl=http://www.global-b2b-network.com/b2b/63/66/426/electronic_signs.html&amp;h=360&amp;w=360&amp;sz=24&amp;hl=en&amp;start=1&amp;um=1&amp;tbnid=3jbZANEz3kYJQM:&amp;tbnh=121&amp;tbnw=121&amp;prev=/images%3Fq%3Dneon%2Bsigns%26svnum%3D10%26um%3D1%26hl%3Den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mages.google.com/imgres?imgurl=http://www.amgmedia.com/freephotos/fire2.jpg&amp;imgrefurl=http://www.amgmedia.com/freephotos/free-photos-3.html&amp;h=600&amp;w=800&amp;sz=165&amp;hl=en&amp;start=2&amp;um=1&amp;tbnid=zPRfNZPzd6x2nM:&amp;tbnh=107&amp;tbnw=143&amp;prev=/images%3Fq%3Dfire%26svnum%3D10%26um%3D1%26hl%3Den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images.google.com/imgres?imgurl=http://www.astrosurf.com/luxorion/Decors/logo-lightning.jpg&amp;imgrefurl=http://www.astrosurf.com/luxorion/qsl-lightning-protection2.htm&amp;h=768&amp;w=1024&amp;sz=57&amp;hl=en&amp;start=4&amp;um=1&amp;tbnid=kAL1OXnH5JH5bM:&amp;tbnh=113&amp;tbnw=150&amp;prev=/images%3Fq%3Dlightning%26svnum%3D10%26um%3D1%26hl%3Den" TargetMode="External"/><Relationship Id="rId11" Type="http://schemas.openxmlformats.org/officeDocument/2006/relationships/image" Target="../media/image8.jpeg"/><Relationship Id="rId12" Type="http://schemas.openxmlformats.org/officeDocument/2006/relationships/hyperlink" Target="http://cache.eb.com/eb/image?id=4301&amp;rendTypeId=4" TargetMode="External"/><Relationship Id="rId13" Type="http://schemas.openxmlformats.org/officeDocument/2006/relationships/image" Target="../media/image9.jpeg"/><Relationship Id="rId14" Type="http://schemas.openxmlformats.org/officeDocument/2006/relationships/hyperlink" Target="http://images.google.com/imgres?imgurl=http://www.astronomy.com/asy/objects/images/sun_full_disk_soho_09_14_1997.jpg&amp;imgrefurl=http://www.astronomy.com/asy/default.aspx%3Fc%3Dss%26id%3D75&amp;h=437&amp;w=500&amp;sz=90&amp;hl=en&amp;start=1&amp;um=1&amp;tbnid=wXBdonwJuNBZCM:&amp;tbnh=114&amp;tbnw=130&amp;prev=/images%3Fq%3Dsun%26svnum%3D10%26um%3D1%26hl%3Den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en.wikipedia.org/wiki/Image:Crookes_William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olarlicht_2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en.wikipedia.org/wiki/Image:Aurora_Borelis_22Jan2004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en.wikipedia.org/wiki/Image:Aurora_australis_panorama.jp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en.wikipedia.org/wiki/Image:Aurora_australis_20050911.jpg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en.wikipedia.org/wiki/Image:AuroraBorealisFromSpace.JP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en.wikipedia.org/wiki/Image:Jupiter.Aurora.HST.UV.jpg" TargetMode="External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paceweathercenter.org/amazing_plasmas/02/02.html" TargetMode="External"/><Relationship Id="rId2" Type="http://schemas.openxmlformats.org/officeDocument/2006/relationships/hyperlink" Target="http://www.spaceweathercenter.org/amazing_plasmas/04/04.html" TargetMode="External"/><Relationship Id="rId3" Type="http://schemas.openxmlformats.org/officeDocument/2006/relationships/hyperlink" Target="http://www.plasmas.org/rot-space.htm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s and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ristin Max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external image SunLayers.png"/>
          <p:cNvPicPr/>
          <p:nvPr/>
        </p:nvPicPr>
        <p:blipFill>
          <a:blip r:embed="rId1"/>
          <a:stretch/>
        </p:blipFill>
        <p:spPr>
          <a:xfrm>
            <a:off x="152280" y="3444840"/>
            <a:ext cx="4343400" cy="3148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56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las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s are ionized 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ons and ions of the plasma are free-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oms that make up the plasma have broken completely ap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s do not have a distinct shape or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he most common form of ma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on’t see that much plasma on Earth because the temperature on Earth is too cold for matter to reach that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very high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Matter Sor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838080"/>
            <a:ext cx="1143000" cy="113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62920" y="228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this ga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some different forms of plas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rthern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r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on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ils of the com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99072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auror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220968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05520" y="25909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0" y="327672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181480" y="4419720"/>
            <a:ext cx="1428840" cy="1076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581280" y="4876920"/>
            <a:ext cx="1162080" cy="761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467480" y="4952880"/>
            <a:ext cx="1238400" cy="1086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e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n is the largest object in the sola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ntains 98% of the total solar system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ppears that the Sun has been active for 4.6 billion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have enough fuel to last for another 5 billion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n emits plas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think that in the solar system nothing fills up the space between the planets, but actually plasma fills up that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warm of charged particles, or pla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n is filled with hot hydrogen and helium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133720" cy="1378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olar prominance"/>
          <p:cNvPicPr/>
          <p:nvPr/>
        </p:nvPicPr>
        <p:blipFill>
          <a:blip r:embed="rId2"/>
          <a:stretch/>
        </p:blipFill>
        <p:spPr>
          <a:xfrm>
            <a:off x="7634160" y="380880"/>
            <a:ext cx="1357560" cy="1193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38680" y="533520"/>
            <a:ext cx="2133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picture of plasma coming from the sun and going out into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2f56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s loop around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roduce magnetic 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rry electrical cur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mperature of the Sun charges up the atoms that create pla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agnetic field is strong enough to influence the direction of the charged particles, it is said that the plasma is magnetiz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Earth’s atmosphere 99% of observable matter in the solar system is pla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mperature and densities of plasmas can be cool and fragile like an aur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mperature and densities can be hot and dense like the center of a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13865"/>
          <a:stretch/>
        </p:blipFill>
        <p:spPr>
          <a:xfrm>
            <a:off x="6324480" y="3049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324480" y="160020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ps of plasma on the sun following the magnetic for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nformation on Pla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79 William Crookes identified the fourth state of matter as pla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s permeate the heliosphere and local intersteller medium and that results in a comet-like interaction with the surrounding plas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s on Earth are mainly found in a succinct phenomena such as lightning or a welder’s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external image 171879main_LimbFlareJan12_lg.jpg"/>
          <p:cNvPicPr/>
          <p:nvPr/>
        </p:nvPicPr>
        <p:blipFill>
          <a:blip r:embed="rId1"/>
          <a:stretch/>
        </p:blipFill>
        <p:spPr>
          <a:xfrm>
            <a:off x="533520" y="4876920"/>
            <a:ext cx="2743200" cy="1774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81280" y="541008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plasma from the sun connecting with the magnetic fie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96080" y="4038480"/>
            <a:ext cx="1300320" cy="147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0120" y="5638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am Cro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ff00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r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thern Lights are aur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 of the plasma depends on the type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Northern Hemisphere auroras are called aurora borealis. In the Southern Hemisphere aurora are called aurora austral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rora are formed from the collision of Earth’s magnetic field and solar w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wind is a stream of plasma coming out of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The Aurora Borealis, or Northern Lights, shines above Bear Lak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4648320"/>
            <a:ext cx="1771920" cy="1155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4120" y="594360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orthern Ligh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Aurora Borealis as seen over Canada at 11,000m (36,000 feet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228600"/>
            <a:ext cx="1828800" cy="1141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rora borealis in Can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An Aurora australi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152280"/>
            <a:ext cx="1876320" cy="1457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001000" y="3049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urora austral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Aurora australis (September 11, 2005) as captured by NASA's IMAGE satellite, digitally overlaid onto the Blue Marble composite image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4920" y="49528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05120" y="502920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rora australis seen from a satelli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Aurora borealis as seen from Space Shuttle Atlantis during STS-117 mission.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00400" y="5486400"/>
            <a:ext cx="1619280" cy="1217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29000" y="48006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rora borealis seen from a space shutt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Jupiter aurora. The bright spot at far left is the end of field line to Io; spots at bottom lead to Ganymede and Europa.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4648320"/>
            <a:ext cx="1295280" cy="1001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238880" y="57913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rora on Jup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es where I got my pictures and facts fr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b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paceweathercenter.org/amazing_plasmas/02/02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paceweathercenter.org/amazing_plasmas/04/04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lasmas.org/rot-spac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n.wikipedia.org/wiki/Plasma_(phys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lasmas.org/rot-plasma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n.wikipedia.org/wiki/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s Ma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ook of Popular Science Book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this game to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plasma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quia.com/ba/143526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states of matter"/>
          <p:cNvPicPr/>
          <p:nvPr/>
        </p:nvPicPr>
        <p:blipFill>
          <a:blip r:embed="rId4"/>
          <a:stretch/>
        </p:blipFill>
        <p:spPr>
          <a:xfrm>
            <a:off x="6019920" y="2819520"/>
            <a:ext cx="2895480" cy="3867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2:20:11Z</dcterms:created>
  <dc:creator>HP Authorized Customer</dc:creator>
  <dc:description/>
  <dc:language>en-US</dc:language>
  <cp:lastModifiedBy>default</cp:lastModifiedBy>
  <dcterms:modified xsi:type="dcterms:W3CDTF">2007-12-03T17:05:43Z</dcterms:modified>
  <cp:revision>31</cp:revision>
  <dc:subject/>
  <dc:title>Plasmas and the Sun</dc:title>
</cp:coreProperties>
</file>